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87D-9873-4D25-A4B3-95B2A544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86C-5D84-4E3B-AB5C-A4AE5184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760E-C2C0-4306-9785-CF3695FF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473-449E-452E-8744-C09EB492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2A6E3-94E9-4E46-9DC2-150F4E01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5F8E7-8A85-4BD2-A377-DA67E178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1D0B6-663C-45D1-B4C9-646AF204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F3CDB-C09A-4116-923B-F9C2278F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7405F-058C-434C-A2CE-B9DC7896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0F665-4841-4986-A0CD-5115A0BD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9C470-57ED-492E-8208-ABB016C2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DD9-A123-4C81-BADF-7A06D345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C777E-1541-4D1D-8369-526CEB6D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184CC-0820-4C3C-B5A6-7BB8DCD0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0D002-CF0A-42EB-AF72-070B4C0D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8DAF5-40AD-4B58-94E3-52E1F942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FBDE4-C0F0-40A6-B5FC-8A14AD1E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2B3C0-9E00-464C-AA57-F33ECBBC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D0185-6090-4885-946D-C0DCC962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EAD17-67D9-4EF2-B41F-7AEA8D99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25CA5-5F75-46F8-AC64-DAE4BD8D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D48FD-E8A7-42AE-BC0C-333E0016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778-81A8-4FA5-B2BC-1DB55E13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D67E8-0303-48F2-845B-E1F41966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AD622-C7C6-4B05-ACFD-0093028D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73A60-4C06-4381-AA9E-10F84B20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FF540-05F4-4A0C-B1A7-055AC307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681D5-7A12-458B-A724-BE553B7E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E6141-484E-48D5-A6BF-1ABDFC7D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136FD-38DE-47F4-9EF6-F85314FC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8EC409-AD82-4C3A-9A60-C144D05A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896DE6-19FA-4591-8522-09AC8D11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7BA25C-73CF-466A-B110-65D9AF6D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EAAF-234F-4C19-8C14-93E1CA51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BEB33F-333C-4585-908E-028C4E3D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1AF776-07A2-4CCC-A312-8D90849D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574D1D-A343-42B5-9BBA-FC05B1D5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6D627A-FE7A-4FBE-A3DC-1879FB00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B45D66-FBD7-47C8-8686-ECFDF91E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5D4FBF-1EC4-4E5B-A9B3-DA77C541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0EC556-A697-4AEA-A10E-0AF28134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D1DEF4-F396-4827-A888-7ABC1587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15C3D7-4FB2-4598-BDD5-CFE7B18F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B41AFE-C3E0-4719-85BF-7F210B58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44F-484D-4D71-BD8B-CB7D0598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EE55F-1F31-440C-B3AC-037C970C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1508C-7570-4CC0-BAD8-90854BFB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34D0E-F26A-47AE-9C69-BAEECAA4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7BC11-3921-4327-BC8E-267CE9C9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C4BCD4-1ACC-429C-B5F7-AC410D1A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929C32-E9A8-45D6-B43C-1AB8FA0E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3B5F0-A156-40D8-B601-32FF140A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F27FC-F344-42E3-9704-10988538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F197C-FF0A-40CF-8FEA-FE411AE6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CFA376-2423-4BB9-9854-BC98ABCB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819-36E9-4B92-80F0-1996EB4D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086E33-7110-48FB-B2F5-D9AE424D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D40E72-912C-417F-A089-04FF4100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B5E2D-38F8-465D-A497-5B80A2B8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8B9A70-4191-49FD-8826-BD841305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5AF17D-6240-41D0-A813-AE7A941B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078A5-63B0-4919-8C70-B16F31BE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189B78-A8D5-4F47-A0EA-33F84FF4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12FF1E-88DE-4120-9673-DFF73FC6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18D2F1-71C1-452C-954E-4EBD6C35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8E315A-0FA2-498F-ACBF-A4740144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6C31-4984-4356-8F43-2CEF21A7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ACF969-9C74-4D18-BEC7-FF61D613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B94CD8-316A-45E7-83FF-7E231CDF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0BE08-1D72-44BC-8792-DAE3A071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189-9E80-461D-A9E4-33B83B47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310-ED51-4001-BF77-87DB1537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8431-8F2A-40CD-9D8B-BE7DF4AB2D94}" type="slidenum">
              <a:rPr b="0" lang="en-CA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EAA2-3965-415F-B692-65007CDFD146}" type="slidenum">
              <a:rPr b="0" lang="en-CA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335E-5E0C-4A22-8CC7-FB68AF14346B}" type="slidenum">
              <a:rPr b="0" lang="en-CA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37EF-2B7F-4F1E-8778-BDF347626DBE}" type="slidenum">
              <a:rPr b="0" lang="en-CA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0BAE-0BA6-4C40-A247-2656A2905789}" type="slidenum">
              <a:rPr b="0" lang="en-CA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1B29-2D07-4678-86A3-5C154171F002}" type="slidenum">
              <a:rPr b="0" lang="en-CA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609480" y="255600"/>
            <a:ext cx="7772400" cy="2017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7777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People under the age of 15 and over the age of 65 usually do not form part of the labour for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Constantia"/>
              </a:rPr>
              <a:t>Dependency Load</a:t>
            </a: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 describes this segment of the population because these people depend on others for suppo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If a country has a high dependency load it places more of a burden on the working population. (more taxes to meet health care needs/schooling need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Title 2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2296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e over 65 age group will be the fastest growing population group in Canada in the next 20 year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Title 2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2296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cf059"/>
                </a:solidFill>
                <a:latin typeface="Constantia"/>
              </a:rPr>
              <a:t>Purpose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nstantia"/>
              </a:rPr>
              <a:t>Used to learn more about a population and what services that group may need in the future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nstantia"/>
              </a:rPr>
              <a:t>Also used to compare populations of different countrie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cf059"/>
                </a:solidFill>
                <a:latin typeface="Constantia"/>
              </a:rPr>
              <a:t>Step 1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nstantia"/>
              </a:rPr>
              <a:t>Draw two lines in the middle of the sheet of paper to make an upside-down letter 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cf059"/>
                </a:solidFill>
                <a:latin typeface="Constantia"/>
              </a:rPr>
              <a:t>Step 2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nstantia"/>
              </a:rPr>
              <a:t>Starting from the bottom, label the age groups from the chart on the vertical line an equal distance apart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9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cf059"/>
                </a:solidFill>
                <a:latin typeface="Constantia"/>
              </a:rPr>
              <a:t>Step 3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nstantia"/>
              </a:rPr>
              <a:t>Number  each square on the bottom line by fives, starting from 0 in the middle to the maximum percentage at the left and right edg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nstantia"/>
              </a:rPr>
              <a:t>Label at the left side “Males” (%) and the right side “Females” (%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1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cf059"/>
                </a:solidFill>
                <a:latin typeface="Constantia"/>
              </a:rPr>
              <a:t>Step 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Using the data provided draw a bar from the center line to show the percentages of people in each age group for males and then for fema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cf059"/>
                </a:solidFill>
                <a:latin typeface="Constantia"/>
              </a:rPr>
              <a:t>Step 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Colour the male and female bars.  Use a different color for each age grou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cf059"/>
                </a:solidFill>
                <a:latin typeface="Constantia"/>
              </a:rPr>
              <a:t>Step 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itle your population pyrami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What is a censu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fac9"/>
                </a:solidFill>
                <a:latin typeface="Constantia"/>
              </a:rPr>
              <a:t>Survey of the popula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What is population density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fac9"/>
                </a:solidFill>
                <a:latin typeface="Constantia"/>
              </a:rPr>
              <a:t>Number  of people per square kilometr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fac9"/>
                </a:solidFill>
                <a:latin typeface="Constantia"/>
              </a:rPr>
              <a:t>What is the formula for calculating pop densit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fac9"/>
                </a:solidFill>
                <a:latin typeface="Constantia"/>
              </a:rPr>
              <a:t>What is the pop density like in Canad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fac9"/>
                </a:solidFill>
                <a:latin typeface="Constantia"/>
              </a:rPr>
              <a:t>Correct Workshee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56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Content Placeholder 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58" name="Title 2" descr=""/>
          <p:cNvPicPr/>
          <p:nvPr/>
        </p:nvPicPr>
        <p:blipFill>
          <a:blip r:embed="rId2"/>
          <a:stretch/>
        </p:blipFill>
        <p:spPr>
          <a:xfrm>
            <a:off x="262080" y="23760"/>
            <a:ext cx="85104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Content Placeholder 3" descr=""/>
          <p:cNvPicPr/>
          <p:nvPr/>
        </p:nvPicPr>
        <p:blipFill>
          <a:blip r:embed="rId1"/>
          <a:stretch/>
        </p:blipFill>
        <p:spPr>
          <a:xfrm>
            <a:off x="360360" y="1523880"/>
            <a:ext cx="8326440" cy="4572000"/>
          </a:xfrm>
          <a:prstGeom prst="rect">
            <a:avLst/>
          </a:prstGeom>
          <a:ln w="0">
            <a:noFill/>
          </a:ln>
        </p:spPr>
      </p:pic>
      <p:pic>
        <p:nvPicPr>
          <p:cNvPr id="260" name="Title 2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In 1867 (when Canada became a nation) our population was 3 230 000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By 2001  that figure had grown to over 31 million peop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Statistics Canada- federal government agency responsible for collecting stats about all aspects of Canad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Content Placeholder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932360"/>
          </a:xfrm>
          <a:prstGeom prst="rect">
            <a:avLst/>
          </a:prstGeom>
          <a:ln w="0">
            <a:noFill/>
          </a:ln>
        </p:spPr>
      </p:pic>
      <p:pic>
        <p:nvPicPr>
          <p:cNvPr id="264" name="Title 2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How many people fall into different age group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is information is often shown in the form of a population pyrami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Content Placeholder 1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Title 2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3"/>
          <a:stretch/>
        </p:blipFill>
        <p:spPr>
          <a:xfrm>
            <a:off x="209520" y="1268280"/>
            <a:ext cx="89344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A country that has more young people than older people will experience higher population growt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A Country with more people in the older age groups is likely to have a slower population growt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Canada’s population has a bulge in the midd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Baby Boomers (definition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1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6:03:43Z</dcterms:created>
  <dc:creator>Jay</dc:creator>
  <dc:description/>
  <dc:language>en-US</dc:language>
  <cp:lastModifiedBy>Jason</cp:lastModifiedBy>
  <dcterms:modified xsi:type="dcterms:W3CDTF">2010-11-09T13:58:51Z</dcterms:modified>
  <cp:revision>9</cp:revision>
  <dc:subject/>
  <dc:title>5.2 Population Growth and Age Distribution</dc:title>
</cp:coreProperties>
</file>